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C3D-2B46-4D7A-BC7C-F0076857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13AE-53EC-416A-AD4A-A9DF1765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BC6C-1618-4B50-B40A-E377C7D8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CCD7-902F-4B05-9314-1394A745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D716-2D42-488D-AB38-AEFDD9D5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518-8129-4368-9104-EA4596D5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0F2C-DCDA-4423-81D3-625EBAE9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69E-D27A-40B8-94CD-28D8B417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F941-3699-4294-A360-01084DE6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80E-93C6-4C7B-9C05-C1B5869F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43F-4273-419E-B65A-F7DF68D3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F4C-940B-4BA5-B65B-C9ED5E56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EB15-8219-4F91-BEFC-B50608C9A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schools.hwcdsb.ca/site_data/44/Image/greenthumb.gif&amp;imgrefurl=http://schools.hwcdsb.ca/page/stmichea/1739/Eco-School---Our-Green-Thumb-Club.html&amp;usg=__YqDAE6lPmu61IDyMyParbjhM2ew=&amp;h=406&amp;w=358&amp;sz=14&amp;hl=en&amp;start=3&amp;zoom=1&amp;um=1&amp;itbs=1&amp;tbnid=VvZyXHVyRB4UxM:&amp;tbnh=124&amp;tbnw=109&amp;prev=/images%3Fq%3Dgreen%2Bthumb%2Baward%2Bschool%26um%3D1%26hl%3Den%26rls%3Dcom.microsoft:en-us:IE-SearchBox%26rlz%3D1I7GGLJ_en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.au/imgres?imgurl=http://schools.hwcdsb.ca/site_data/44/Image/greenthumb.gif&amp;imgrefurl=http://schools.hwcdsb.ca/page/stmichea/1739/Eco-School---Our-Green-Thumb-Club.html&amp;usg=__YqDAE6lPmu61IDyMyParbjhM2ew=&amp;h=406&amp;w=358&amp;sz=14&amp;hl=en&amp;start=3&amp;zoom=1&amp;um=1&amp;itbs=1&amp;tbnid=VvZyXHVyRB4UxM:&amp;tbnh=124&amp;tbnw=109&amp;prev=/images%3Fq%3Dgreen%2Bthumb%2Baward%2Bschool%26um%3D1%26hl%3Den%26rls%3Dcom.microsoft:en-us:IE-SearchBox%26rlz%3D1I7GGLJ_en%26tbs%3Disch:1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www.google.com.au/imgres?imgurl=http://schools.hwcdsb.ca/site_data/44/Image/greenthumb.gif&amp;imgrefurl=http://schools.hwcdsb.ca/page/stmichea/1739/Eco-School---Our-Green-Thumb-Club.html&amp;usg=__YqDAE6lPmu61IDyMyParbjhM2ew=&amp;h=406&amp;w=358&amp;sz=14&amp;hl=en&amp;start=3&amp;zoom=1&amp;um=1&amp;itbs=1&amp;tbnid=VvZyXHVyRB4UxM:&amp;tbnh=124&amp;tbnw=109&amp;prev=/images%3Fq%3Dgreen%2Bthumb%2Baward%2Bschool%26um%3D1%26hl%3Den%26rls%3Dcom.microsoft:en-us:IE-SearchBox%26rlz%3D1I7GGLJ_en%26tbs%3Disch:1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www.google.com.au/imgres?imgurl=http://schools.hwcdsb.ca/site_data/44/Image/greenthumb.gif&amp;imgrefurl=http://schools.hwcdsb.ca/page/stmichea/1739/Eco-School---Our-Green-Thumb-Club.html&amp;usg=__YqDAE6lPmu61IDyMyParbjhM2ew=&amp;h=406&amp;w=358&amp;sz=14&amp;hl=en&amp;start=3&amp;zoom=1&amp;um=1&amp;itbs=1&amp;tbnid=VvZyXHVyRB4UxM:&amp;tbnh=124&amp;tbnw=109&amp;prev=/images%3Fq%3Dgreen%2Bthumb%2Baward%2Bschool%26um%3D1%26hl%3Den%26rls%3Dcom.microsoft:en-us:IE-SearchBox%26rlz%3D1I7GGLJ_en%26tbs%3Disch:1" TargetMode="External"/><Relationship Id="rId8" Type="http://schemas.openxmlformats.org/officeDocument/2006/relationships/image" Target="../media/image1.jpeg"/><Relationship Id="rId9" Type="http://schemas.openxmlformats.org/officeDocument/2006/relationships/hyperlink" Target="http://www.google.com.au/imgres?imgurl=http://schools.hwcdsb.ca/site_data/44/Image/greenthumb.gif&amp;imgrefurl=http://schools.hwcdsb.ca/page/stmichea/1739/Eco-School---Our-Green-Thumb-Club.html&amp;usg=__YqDAE6lPmu61IDyMyParbjhM2ew=&amp;h=406&amp;w=358&amp;sz=14&amp;hl=en&amp;start=3&amp;zoom=1&amp;um=1&amp;itbs=1&amp;tbnid=VvZyXHVyRB4UxM:&amp;tbnh=124&amp;tbnw=109&amp;prev=/images%3Fq%3Dgreen%2Bthumb%2Baward%2Bschool%26um%3D1%26hl%3Den%26rls%3Dcom.microsoft:en-us:IE-SearchBox%26rlz%3D1I7GGLJ_en%26tbs%3Disch:1" TargetMode="External"/><Relationship Id="rId10" Type="http://schemas.openxmlformats.org/officeDocument/2006/relationships/image" Target="../media/image1.jpeg"/><Relationship Id="rId11" Type="http://schemas.openxmlformats.org/officeDocument/2006/relationships/hyperlink" Target="http://www.google.com.au/imgres?imgurl=http://schools.hwcdsb.ca/site_data/44/Image/greenthumb.gif&amp;imgrefurl=http://schools.hwcdsb.ca/page/stmichea/1739/Eco-School---Our-Green-Thumb-Club.html&amp;usg=__YqDAE6lPmu61IDyMyParbjhM2ew=&amp;h=406&amp;w=358&amp;sz=14&amp;hl=en&amp;start=3&amp;zoom=1&amp;um=1&amp;itbs=1&amp;tbnid=VvZyXHVyRB4UxM:&amp;tbnh=124&amp;tbnw=109&amp;prev=/images%3Fq%3Dgreen%2Bthumb%2Baward%2Bschool%26um%3D1%26hl%3Den%26rls%3Dcom.microsoft:en-us:IE-SearchBox%26rlz%3D1I7GGLJ_en%26tbs%3Disch:1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www.dreamstime.com/cartoon-chef-eps-thumb5209003.jpg&amp;imgrefurl=http://www.dreamstime.com/stock-photos-cartoon-chef-eps-image5209003&amp;usg=__7qEBt5VhwMgO7glqJWs26INgs30=&amp;h=308&amp;w=300&amp;sz=35&amp;hl=en&amp;start=48&amp;zoom=1&amp;um=1&amp;itbs=1&amp;tbnid=860gEzwdvOxSTM:&amp;tbnh=117&amp;tbnw=114&amp;prev=/images%3Fq%3Dchef%26start%3D40%26um%3D1%26hl%3Den%26sa%3DN%26rls%3Dcom.microsoft:en-us:IE-SearchBox%26rlz%3D1I7GGLJ_en%26ndsp%3D20%26tbs%3Disch: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m.au/imgres?imgurl=http://www.dreamstime.com/cartoon-chef-eps-thumb5209003.jpg&amp;imgrefurl=http://www.dreamstime.com/stock-photos-cartoon-chef-eps-image5209003&amp;usg=__7qEBt5VhwMgO7glqJWs26INgs30=&amp;h=308&amp;w=300&amp;sz=35&amp;hl=en&amp;start=48&amp;zoom=1&amp;um=1&amp;itbs=1&amp;tbnid=860gEzwdvOxSTM:&amp;tbnh=117&amp;tbnw=114&amp;prev=/images%3Fq%3Dchef%26start%3D40%26um%3D1%26hl%3Den%26sa%3DN%26rls%3Dcom.microsoft:en-us:IE-SearchBox%26rlz%3D1I7GGLJ_en%26ndsp%3D20%26tbs%3Disch: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com.au/imgres?imgurl=http://www.dreamstime.com/cartoon-chef-eps-thumb5209003.jpg&amp;imgrefurl=http://www.dreamstime.com/stock-photos-cartoon-chef-eps-image5209003&amp;usg=__7qEBt5VhwMgO7glqJWs26INgs30=&amp;h=308&amp;w=300&amp;sz=35&amp;hl=en&amp;start=48&amp;zoom=1&amp;um=1&amp;itbs=1&amp;tbnid=860gEzwdvOxSTM:&amp;tbnh=117&amp;tbnw=114&amp;prev=/images%3Fq%3Dchef%26start%3D40%26um%3D1%26hl%3Den%26sa%3DN%26rls%3Dcom.microsoft:en-us:IE-SearchBox%26rlz%3D1I7GGLJ_en%26ndsp%3D20%26tbs%3Disch:1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www.google.com.au/imgres?imgurl=http://www.dreamstime.com/cartoon-chef-eps-thumb5209003.jpg&amp;imgrefurl=http://www.dreamstime.com/stock-photos-cartoon-chef-eps-image5209003&amp;usg=__7qEBt5VhwMgO7glqJWs26INgs30=&amp;h=308&amp;w=300&amp;sz=35&amp;hl=en&amp;start=48&amp;zoom=1&amp;um=1&amp;itbs=1&amp;tbnid=860gEzwdvOxSTM:&amp;tbnh=117&amp;tbnw=114&amp;prev=/images%3Fq%3Dchef%26start%3D40%26um%3D1%26hl%3Den%26sa%3DN%26rls%3Dcom.microsoft:en-us:IE-SearchBox%26rlz%3D1I7GGLJ_en%26ndsp%3D20%26tbs%3Disch:1" TargetMode="External"/><Relationship Id="rId8" Type="http://schemas.openxmlformats.org/officeDocument/2006/relationships/image" Target="../media/image2.jpeg"/><Relationship Id="rId9" Type="http://schemas.openxmlformats.org/officeDocument/2006/relationships/hyperlink" Target="http://www.google.com.au/imgres?imgurl=http://www.dreamstime.com/cartoon-chef-eps-thumb5209003.jpg&amp;imgrefurl=http://www.dreamstime.com/stock-photos-cartoon-chef-eps-image5209003&amp;usg=__7qEBt5VhwMgO7glqJWs26INgs30=&amp;h=308&amp;w=300&amp;sz=35&amp;hl=en&amp;start=48&amp;zoom=1&amp;um=1&amp;itbs=1&amp;tbnid=860gEzwdvOxSTM:&amp;tbnh=117&amp;tbnw=114&amp;prev=/images%3Fq%3Dchef%26start%3D40%26um%3D1%26hl%3Den%26sa%3DN%26rls%3Dcom.microsoft:en-us:IE-SearchBox%26rlz%3D1I7GGLJ_en%26ndsp%3D20%26tbs%3Disch:1" TargetMode="External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880" y="228600"/>
            <a:ext cx="2438640" cy="3047760"/>
            <a:chOff x="380880" y="228600"/>
            <a:chExt cx="2438640" cy="3047760"/>
          </a:xfrm>
        </p:grpSpPr>
        <p:sp>
          <p:nvSpPr>
            <p:cNvPr id="42" name=""/>
            <p:cNvSpPr/>
            <p:nvPr/>
          </p:nvSpPr>
          <p:spPr>
            <a:xfrm>
              <a:off x="380880" y="228600"/>
              <a:ext cx="2438640" cy="3047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019160" y="914400"/>
              <a:ext cx="10382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 txBox="1"/>
            <p:nvPr/>
          </p:nvSpPr>
          <p:spPr>
            <a:xfrm>
              <a:off x="609480" y="285480"/>
              <a:ext cx="192420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reen Thumb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276720" y="228600"/>
            <a:ext cx="2438280" cy="3047760"/>
            <a:chOff x="3276720" y="228600"/>
            <a:chExt cx="2438280" cy="3047760"/>
          </a:xfrm>
        </p:grpSpPr>
        <p:sp>
          <p:nvSpPr>
            <p:cNvPr id="46" name=""/>
            <p:cNvSpPr/>
            <p:nvPr/>
          </p:nvSpPr>
          <p:spPr>
            <a:xfrm>
              <a:off x="3276720" y="228600"/>
              <a:ext cx="2438280" cy="3047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914640" y="914400"/>
              <a:ext cx="103788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 txBox="1"/>
            <p:nvPr/>
          </p:nvSpPr>
          <p:spPr>
            <a:xfrm>
              <a:off x="3504960" y="285480"/>
              <a:ext cx="192384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reen Thumb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172200" y="228600"/>
            <a:ext cx="2438280" cy="3047760"/>
            <a:chOff x="6172200" y="228600"/>
            <a:chExt cx="2438280" cy="3047760"/>
          </a:xfrm>
        </p:grpSpPr>
        <p:sp>
          <p:nvSpPr>
            <p:cNvPr id="50" name=""/>
            <p:cNvSpPr/>
            <p:nvPr/>
          </p:nvSpPr>
          <p:spPr>
            <a:xfrm>
              <a:off x="6172200" y="228600"/>
              <a:ext cx="2438280" cy="3047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810120" y="914400"/>
              <a:ext cx="103788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 txBox="1"/>
            <p:nvPr/>
          </p:nvSpPr>
          <p:spPr>
            <a:xfrm>
              <a:off x="6400440" y="285480"/>
              <a:ext cx="192384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reen Thumb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80880" y="3505320"/>
            <a:ext cx="2438640" cy="3047760"/>
            <a:chOff x="380880" y="3505320"/>
            <a:chExt cx="2438640" cy="3047760"/>
          </a:xfrm>
        </p:grpSpPr>
        <p:sp>
          <p:nvSpPr>
            <p:cNvPr id="54" name=""/>
            <p:cNvSpPr/>
            <p:nvPr/>
          </p:nvSpPr>
          <p:spPr>
            <a:xfrm>
              <a:off x="380880" y="3505320"/>
              <a:ext cx="2438640" cy="3047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1019160" y="4191120"/>
              <a:ext cx="10382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 txBox="1"/>
            <p:nvPr/>
          </p:nvSpPr>
          <p:spPr>
            <a:xfrm>
              <a:off x="609480" y="3562200"/>
              <a:ext cx="192420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reen Thumb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276720" y="3505320"/>
            <a:ext cx="2438280" cy="3047760"/>
            <a:chOff x="3276720" y="3505320"/>
            <a:chExt cx="2438280" cy="3047760"/>
          </a:xfrm>
        </p:grpSpPr>
        <p:sp>
          <p:nvSpPr>
            <p:cNvPr id="58" name=""/>
            <p:cNvSpPr/>
            <p:nvPr/>
          </p:nvSpPr>
          <p:spPr>
            <a:xfrm>
              <a:off x="3276720" y="3505320"/>
              <a:ext cx="2438280" cy="3047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3914640" y="4191120"/>
              <a:ext cx="103788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 txBox="1"/>
            <p:nvPr/>
          </p:nvSpPr>
          <p:spPr>
            <a:xfrm>
              <a:off x="3504960" y="3562200"/>
              <a:ext cx="192384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reen Thumb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172200" y="3505320"/>
            <a:ext cx="2438280" cy="3047760"/>
            <a:chOff x="6172200" y="3505320"/>
            <a:chExt cx="2438280" cy="3047760"/>
          </a:xfrm>
        </p:grpSpPr>
        <p:sp>
          <p:nvSpPr>
            <p:cNvPr id="62" name=""/>
            <p:cNvSpPr/>
            <p:nvPr/>
          </p:nvSpPr>
          <p:spPr>
            <a:xfrm>
              <a:off x="6172200" y="3505320"/>
              <a:ext cx="2438280" cy="3047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6810120" y="4191120"/>
              <a:ext cx="103788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 txBox="1"/>
            <p:nvPr/>
          </p:nvSpPr>
          <p:spPr>
            <a:xfrm>
              <a:off x="6400440" y="3562200"/>
              <a:ext cx="192384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reen Thumb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80880" y="228600"/>
            <a:ext cx="2438640" cy="3048120"/>
            <a:chOff x="380880" y="228600"/>
            <a:chExt cx="2438640" cy="3048120"/>
          </a:xfrm>
        </p:grpSpPr>
        <p:sp>
          <p:nvSpPr>
            <p:cNvPr id="66" name=""/>
            <p:cNvSpPr/>
            <p:nvPr/>
          </p:nvSpPr>
          <p:spPr>
            <a:xfrm>
              <a:off x="380880" y="228600"/>
              <a:ext cx="2438640" cy="304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609480" y="285840"/>
              <a:ext cx="1924200" cy="55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ead Chef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68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047600" y="990720"/>
              <a:ext cx="1086120" cy="111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3200400" y="228600"/>
            <a:ext cx="2438280" cy="3048120"/>
            <a:chOff x="3200400" y="228600"/>
            <a:chExt cx="2438280" cy="3048120"/>
          </a:xfrm>
        </p:grpSpPr>
        <p:sp>
          <p:nvSpPr>
            <p:cNvPr id="70" name=""/>
            <p:cNvSpPr/>
            <p:nvPr/>
          </p:nvSpPr>
          <p:spPr>
            <a:xfrm>
              <a:off x="3200400" y="228600"/>
              <a:ext cx="2438280" cy="304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3428640" y="285840"/>
              <a:ext cx="1923840" cy="55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ead Chef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72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66760" y="990720"/>
              <a:ext cx="1085760" cy="111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"/>
          <p:cNvGrpSpPr/>
          <p:nvPr/>
        </p:nvGrpSpPr>
        <p:grpSpPr>
          <a:xfrm>
            <a:off x="6019920" y="228600"/>
            <a:ext cx="2438280" cy="3048120"/>
            <a:chOff x="6019920" y="228600"/>
            <a:chExt cx="2438280" cy="3048120"/>
          </a:xfrm>
        </p:grpSpPr>
        <p:sp>
          <p:nvSpPr>
            <p:cNvPr id="74" name=""/>
            <p:cNvSpPr/>
            <p:nvPr/>
          </p:nvSpPr>
          <p:spPr>
            <a:xfrm>
              <a:off x="6019920" y="228600"/>
              <a:ext cx="2438280" cy="304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6248160" y="285840"/>
              <a:ext cx="1923840" cy="55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ead Chef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76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686280" y="990720"/>
              <a:ext cx="1085760" cy="111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"/>
          <p:cNvGrpSpPr/>
          <p:nvPr/>
        </p:nvGrpSpPr>
        <p:grpSpPr>
          <a:xfrm>
            <a:off x="380880" y="3581280"/>
            <a:ext cx="2438640" cy="3048120"/>
            <a:chOff x="380880" y="3581280"/>
            <a:chExt cx="2438640" cy="3048120"/>
          </a:xfrm>
        </p:grpSpPr>
        <p:sp>
          <p:nvSpPr>
            <p:cNvPr id="78" name=""/>
            <p:cNvSpPr/>
            <p:nvPr/>
          </p:nvSpPr>
          <p:spPr>
            <a:xfrm>
              <a:off x="380880" y="3581280"/>
              <a:ext cx="2438640" cy="304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609480" y="3638520"/>
              <a:ext cx="1924200" cy="55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ead Chef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80" name="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1047600" y="4343400"/>
              <a:ext cx="1086120" cy="111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"/>
          <p:cNvGrpSpPr/>
          <p:nvPr/>
        </p:nvGrpSpPr>
        <p:grpSpPr>
          <a:xfrm>
            <a:off x="3200400" y="3581280"/>
            <a:ext cx="2438280" cy="3048120"/>
            <a:chOff x="3200400" y="3581280"/>
            <a:chExt cx="2438280" cy="3048120"/>
          </a:xfrm>
        </p:grpSpPr>
        <p:sp>
          <p:nvSpPr>
            <p:cNvPr id="82" name=""/>
            <p:cNvSpPr/>
            <p:nvPr/>
          </p:nvSpPr>
          <p:spPr>
            <a:xfrm>
              <a:off x="3200400" y="3581280"/>
              <a:ext cx="2438280" cy="304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428640" y="3638520"/>
              <a:ext cx="1923840" cy="55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ead Chef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84" name="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3866760" y="4343400"/>
              <a:ext cx="1085760" cy="111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6019920" y="3581280"/>
            <a:ext cx="2438280" cy="3048120"/>
            <a:chOff x="6019920" y="3581280"/>
            <a:chExt cx="2438280" cy="3048120"/>
          </a:xfrm>
        </p:grpSpPr>
        <p:sp>
          <p:nvSpPr>
            <p:cNvPr id="86" name=""/>
            <p:cNvSpPr/>
            <p:nvPr/>
          </p:nvSpPr>
          <p:spPr>
            <a:xfrm>
              <a:off x="6019920" y="3581280"/>
              <a:ext cx="2438280" cy="304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6248160" y="3638520"/>
              <a:ext cx="1923840" cy="55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ead Chef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1"/>
            <a:stretch/>
          </p:blipFill>
          <p:spPr>
            <a:xfrm>
              <a:off x="6686280" y="4343400"/>
              <a:ext cx="1085760" cy="111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23:50:12Z</dcterms:created>
  <dc:creator>Brook Polidano</dc:creator>
  <dc:description/>
  <dc:language>en-US</dc:language>
  <cp:lastModifiedBy>Brook Polidano</cp:lastModifiedBy>
  <dcterms:modified xsi:type="dcterms:W3CDTF">2010-10-14T00:00:22Z</dcterms:modified>
  <cp:revision>1</cp:revision>
  <dc:subject/>
  <dc:title>Slide 1</dc:title>
</cp:coreProperties>
</file>